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1511935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3E7-1EC1-4A22-8858-3780D382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1924524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560" y="8739720"/>
            <a:ext cx="1924524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8B3-C82D-406B-A914-35C9D7A7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560" y="873972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0680" y="873972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CEE-937C-4414-AD1A-34FD973E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6560" y="352728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3200" y="352728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560" y="873972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6560" y="873972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3200" y="873972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A92-4C66-4132-B288-BCD68934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560" y="3527280"/>
            <a:ext cx="19245240" cy="997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388-B523-4865-9D7F-61EAC6A3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1924524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B5A-971A-47B4-938D-15A273E7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4F9-7323-48E5-82E2-9AC2B1C8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F2B-EE6E-4145-9CDD-9E8FF645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604440"/>
            <a:ext cx="19245240" cy="116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7A9-E903-4C91-8A32-B118D82B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560" y="873972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956-AEA2-4482-BDD3-32D0FF93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0680" y="873972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3FA-E4C6-4577-9705-C1FF3E61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560" y="8739720"/>
            <a:ext cx="1924524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DAE-7858-42C1-A044-A733AF42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560" y="3527280"/>
            <a:ext cx="1924524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17840" indent="-71784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1" marL="1556280" indent="-59868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2" marL="2394720" indent="-4795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3" marL="3350880" indent="-4777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4" marL="4308840" indent="-47808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5" marL="4308840" indent="-47808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6" marL="4308840" indent="-47808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920" y="13768200"/>
            <a:ext cx="498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5480" y="13768200"/>
            <a:ext cx="67719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3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5560" y="13768200"/>
            <a:ext cx="498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A4EF-0F96-405E-9382-FC7B860D0A05}" type="slidenum">
              <a:rPr b="0" lang="zh-CN" sz="3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7"/>
          <p:cNvSpPr/>
          <p:nvPr/>
        </p:nvSpPr>
        <p:spPr>
          <a:xfrm>
            <a:off x="5477040" y="3844800"/>
            <a:ext cx="10604160" cy="2289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1182600" y="1274760"/>
            <a:ext cx="187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附件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湖南省既有住宅加装电梯项目审批流程指导图            总审批时限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工作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7"/>
          <p:cNvSpPr/>
          <p:nvPr/>
        </p:nvSpPr>
        <p:spPr>
          <a:xfrm>
            <a:off x="16347960" y="2787480"/>
            <a:ext cx="3834000" cy="6033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第四阶段（竣工验收阶段）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9"/>
          <p:cNvSpPr/>
          <p:nvPr/>
        </p:nvSpPr>
        <p:spPr>
          <a:xfrm>
            <a:off x="16347960" y="2787480"/>
            <a:ext cx="3834000" cy="6033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第四阶段（竣工验收阶段）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阶段时限：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个工作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64"/>
          <p:cNvSpPr/>
          <p:nvPr/>
        </p:nvSpPr>
        <p:spPr>
          <a:xfrm>
            <a:off x="8204040" y="5381640"/>
            <a:ext cx="60613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设工程质量安全监督手续办理和建筑工程施工许可证核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71"/>
          <p:cNvSpPr/>
          <p:nvPr/>
        </p:nvSpPr>
        <p:spPr>
          <a:xfrm>
            <a:off x="16735320" y="3841920"/>
            <a:ext cx="3446640" cy="228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72"/>
          <p:cNvSpPr/>
          <p:nvPr/>
        </p:nvSpPr>
        <p:spPr>
          <a:xfrm>
            <a:off x="16851240" y="5162400"/>
            <a:ext cx="3214800" cy="714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设工程竣工验收备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73"/>
          <p:cNvSpPr/>
          <p:nvPr/>
        </p:nvSpPr>
        <p:spPr>
          <a:xfrm>
            <a:off x="16851240" y="4110120"/>
            <a:ext cx="3214800" cy="831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联合验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（自然资源与规划、城建档案、消防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53"/>
          <p:cNvSpPr/>
          <p:nvPr/>
        </p:nvSpPr>
        <p:spPr>
          <a:xfrm>
            <a:off x="3083040" y="11115720"/>
            <a:ext cx="15035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该类项目原则上应在湖南省工程建设项目审批管理系统进行办理。审批时限自受理之日起计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虚线框内的事项实行并联审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行政审批、备案和依法由政府组织、委托或购买服务的技术审查、中介服务均计入相应审批事项的审批时限；市政公用服务报装办理时间计入审批总时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3"/>
          <p:cNvSpPr/>
          <p:nvPr/>
        </p:nvSpPr>
        <p:spPr>
          <a:xfrm>
            <a:off x="5810400" y="2787480"/>
            <a:ext cx="6600600" cy="603360"/>
          </a:xfrm>
          <a:prstGeom prst="pi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8"/>
          <p:cNvSpPr/>
          <p:nvPr/>
        </p:nvSpPr>
        <p:spPr>
          <a:xfrm>
            <a:off x="5450040" y="7551720"/>
            <a:ext cx="10605960" cy="278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0"/>
          <p:cNvSpPr/>
          <p:nvPr/>
        </p:nvSpPr>
        <p:spPr>
          <a:xfrm>
            <a:off x="5599080" y="8232840"/>
            <a:ext cx="10309320" cy="78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工程建设涉及城市绿地、树木审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1"/>
          <p:cNvSpPr/>
          <p:nvPr/>
        </p:nvSpPr>
        <p:spPr>
          <a:xfrm>
            <a:off x="5610240" y="9231480"/>
            <a:ext cx="10287000" cy="839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工程建设需要拆除、改动、迁移供水、排水与污水处理设施审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即办件，实行告知承诺制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9"/>
          <p:cNvSpPr/>
          <p:nvPr/>
        </p:nvSpPr>
        <p:spPr>
          <a:xfrm>
            <a:off x="6086520" y="7694640"/>
            <a:ext cx="93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、二、三阶段可并联或并行办理的其它事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4"/>
          <p:cNvSpPr/>
          <p:nvPr/>
        </p:nvSpPr>
        <p:spPr>
          <a:xfrm>
            <a:off x="8780400" y="2787480"/>
            <a:ext cx="7567560" cy="60336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5"/>
          <p:cNvSpPr/>
          <p:nvPr/>
        </p:nvSpPr>
        <p:spPr>
          <a:xfrm>
            <a:off x="5146560" y="2787480"/>
            <a:ext cx="3645000" cy="60336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8674200" y="2793960"/>
            <a:ext cx="215640" cy="5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0"/>
          <p:cNvSpPr/>
          <p:nvPr/>
        </p:nvSpPr>
        <p:spPr>
          <a:xfrm>
            <a:off x="8190000" y="4079880"/>
            <a:ext cx="501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设工程规划许可证核发（含设计方案审查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接箭头连接符 21"/>
          <p:cNvCxnSpPr/>
          <p:nvPr/>
        </p:nvCxnSpPr>
        <p:spPr>
          <a:xfrm>
            <a:off x="16056000" y="4916160"/>
            <a:ext cx="6912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直接连接符 13"/>
          <p:cNvSpPr/>
          <p:nvPr/>
        </p:nvSpPr>
        <p:spPr>
          <a:xfrm>
            <a:off x="1182600" y="6905520"/>
            <a:ext cx="1949940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2"/>
          <p:cNvSpPr/>
          <p:nvPr/>
        </p:nvSpPr>
        <p:spPr>
          <a:xfrm>
            <a:off x="5035680" y="2787480"/>
            <a:ext cx="11312280" cy="603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第一阶段（用地规划许可阶段）、第二阶段（工程建设许可阶段）和第三阶段（施工许可阶段）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阶段时限：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个工作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8"/>
          <p:cNvSpPr/>
          <p:nvPr/>
        </p:nvSpPr>
        <p:spPr>
          <a:xfrm>
            <a:off x="8051760" y="4799160"/>
            <a:ext cx="5286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施工图设计文件审查（含消防）（审批时限：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8+3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8"/>
          <p:cNvGrpSpPr/>
          <p:nvPr/>
        </p:nvGrpSpPr>
        <p:grpSpPr>
          <a:xfrm>
            <a:off x="5450040" y="4606920"/>
            <a:ext cx="10605600" cy="714240"/>
            <a:chOff x="5450040" y="4606920"/>
            <a:chExt cx="10605600" cy="714240"/>
          </a:xfrm>
        </p:grpSpPr>
        <p:sp>
          <p:nvSpPr>
            <p:cNvPr id="64" name="直接连接符 23"/>
            <p:cNvSpPr/>
            <p:nvPr/>
          </p:nvSpPr>
          <p:spPr>
            <a:xfrm>
              <a:off x="5513760" y="4606920"/>
              <a:ext cx="105418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2"/>
            <p:cNvSpPr/>
            <p:nvPr/>
          </p:nvSpPr>
          <p:spPr>
            <a:xfrm>
              <a:off x="5450040" y="5321160"/>
              <a:ext cx="105418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文本框 14"/>
          <p:cNvSpPr/>
          <p:nvPr/>
        </p:nvSpPr>
        <p:spPr>
          <a:xfrm>
            <a:off x="1506600" y="3889440"/>
            <a:ext cx="3360600" cy="22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0"/>
          <p:cNvSpPr/>
          <p:nvPr/>
        </p:nvSpPr>
        <p:spPr>
          <a:xfrm>
            <a:off x="1608120" y="4272120"/>
            <a:ext cx="3157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申请人在正式报建前需征求所在单位全体业主意见，业主意见征询完成达成一致后，业主应当协商确定增设电梯项目的承建单位，承建单位拟制增设电梯初步方案，向所在社区申请增设电梯事项公示等报建准备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五边形 15"/>
          <p:cNvSpPr/>
          <p:nvPr/>
        </p:nvSpPr>
        <p:spPr>
          <a:xfrm>
            <a:off x="1504800" y="2755800"/>
            <a:ext cx="3630600" cy="603360"/>
          </a:xfrm>
          <a:custGeom>
            <a:avLst/>
            <a:gdLst>
              <a:gd name="textAreaLeft" fmla="*/ 0 w 3630600"/>
              <a:gd name="textAreaRight" fmla="*/ 3630960 w 3630600"/>
              <a:gd name="textAreaTop" fmla="*/ 0 h 603360"/>
              <a:gd name="textAreaBottom" fmla="*/ 60336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意见协同阶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接箭头连接符 11"/>
          <p:cNvCxnSpPr/>
          <p:nvPr/>
        </p:nvCxnSpPr>
        <p:spPr>
          <a:xfrm>
            <a:off x="4874760" y="4916160"/>
            <a:ext cx="577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页脚占位符 30"/>
          <p:cNvSpPr/>
          <p:nvPr/>
        </p:nvSpPr>
        <p:spPr>
          <a:xfrm>
            <a:off x="7305840" y="13768560"/>
            <a:ext cx="67719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宋体"/>
              </a:rPr>
              <a:t>— </a:t>
            </a:r>
            <a:r>
              <a:rPr b="0" sz="1400" spc="-1" strike="noStrike">
                <a:solidFill>
                  <a:srgbClr val="000000"/>
                </a:solidFill>
                <a:latin typeface="宋体"/>
              </a:rPr>
              <a:t>34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9T04:13:00Z</dcterms:created>
  <dc:creator>xuhao</dc:creator>
  <dc:description/>
  <dc:language>en-US</dc:language>
  <cp:lastModifiedBy>贺雪莲 172.16.19.111</cp:lastModifiedBy>
  <dcterms:modified xsi:type="dcterms:W3CDTF">2023-07-28T08:16:25Z</dcterms:modified>
  <cp:revision>3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4D93CE853044FB3BDCB9C99533CDDBF</vt:lpwstr>
  </property>
  <property fmtid="{D5CDD505-2E9C-101B-9397-08002B2CF9AE}" pid="3" name="KSOProductBuildVer">
    <vt:lpwstr>2052-11.1.0.13703</vt:lpwstr>
  </property>
</Properties>
</file>